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CAC-8A53-4C31-B351-8E5C5D5E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A01-5AA7-49F9-BA54-3225AE61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A33-A02F-4E52-B229-87DB288B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54B-D178-4814-BBFF-EB84B6AA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E274-3D07-469A-8DC6-E1DB113C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FAA6-CEF0-481C-B2A6-1FF6A443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AAFF-ACE0-4D6F-A97C-4E822015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76FE-5B4D-4A95-B90F-102382A9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AD81-0C34-459A-817A-6AD73D2F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D31D-7ACC-4412-9795-8F0955C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540B-968B-47D8-AC27-505F4F54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887-9A16-482E-BD59-1F68B9E7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9408-DAAD-4651-AEFE-ABE15F8F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AA9B-96A7-4E6C-B00F-A656EE6B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4D2F-FF72-466D-B7DB-65A53A2A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28BB-1B19-480C-83C5-8A87480A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F5F9-B950-4FFC-BFE8-311DB913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BE7-1FC6-4055-BCA9-2CE20382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026-2386-4657-BBAE-A902C76B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FB4-3477-4F7D-9228-5CFC48A6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47D-CEF9-4923-80DF-D3497156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B45-E119-4FD2-8EB2-729DEB4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F69-9C51-44EC-900E-FCA5022F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400-E7D8-4838-A594-5014295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F422-9411-473B-B1BE-80F9E3766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46D-9661-46C3-A500-7E6404584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datbázis kezelés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Határozzuk meg, hogy témakörönként hány könyv, és milyen értékben található a könyvtárunkban?Adjuk meg a legnagyobb és a legkisebb értéket is!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adat megoldásához úgynevezett összesítő lekérdezést kell használn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összesítés sor megjelenítéséhez a nézet/összesítés menüpontot válassz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lábbi típusok közül lehet válasz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UM,AVG,MIN,MAX,COUNT,STDEV,VAR, FIRST,L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oldás: témakörönként csoportosítva (group by),leltári szám szerint megszámoljuk (count) az egyes kategóriába eső könyveket,összesítjük (sum) csoportonként a beszerzési árat,s meghatározzuk annak min. ill. maximum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Téma szerint lehessen a könyvtárban keresni, a téma megadása után kapjuk válaszul a megfelelő témájú könyvek listáját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megoldás egyszer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ervezőrácsban a témakör mező feltételek sorában paramétert fogunk megad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araméter jelzése [ megjelenítendő szöveg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en esetben a feltéte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ike [Keresett témakör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ereszttáblás lekérdez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aink tömör megjelenítéséhez kereszttáblás lekérdezést használhat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élda: tekintsük át, hogy az egyes osztályokból hány olvasónk 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sználjuk a varázsló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iktált sorrendben kell megadnunk a szükséges adato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ábla vál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r illetve  oszlopok értékeinke megad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kció lekérdezés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áblakészítő lekérd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sősorban akkor használjuk, ha egy rész adathalmazra külön szükségünk 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örlő lekérd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az adatok egy feltételekkel jól meghatározható részét törölni kivánj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rissítő lekérd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Jól alkalmazható, ha az adatok egy részében szisztematikus változást kell végrehajtan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zzáfűző lekérd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s táblából akarunk importálni adatok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z adatfeldolgozás alapeszköz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kér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végeredményben egy egyszerű kérdés, mint pl. : „Mely témájú könyvek a legnépszerűbbek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letkező rekordok összessége az eredményhalmaz, mely a lekérdezés minden futtatásakor automatikusan friss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kérdezések létrehozá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y könyvek kölcsönzési határideje járt le, és azok melyik olvasónál található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zükséges lépés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Új lekérdezés objektum megnyi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y táblák, mely mezőire lesz szük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yen feltételeket kell alkalmaz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eni a kész lekérdezé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d futatn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tbázis-ablak lekérdezések nézetében új lekér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ázslók vagy a tervező nézet, válasszuk az utób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k meg a szerepeltetni kívánt táblákat, hasonlóan, mint a kapcsolatokná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érdés megválaszolásához a „kölcsönzések”,”olvasók” és a „könyvek” táblára lesz szük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rvező nézet ablaka két részből á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ső részben a kiválasztott tábl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lsó rész tervező rácsán végezzük el a tényleges munk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zők kiválasztás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rvezőrács mező sorába kattintva, legördülő listából kiválasztjuk ő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gy a felső részből egérrel behúzzuk ő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 következő mezőket kell kiválasztan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lcsönzések táblábó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lcsönzéskó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Olvasókó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eltáriszá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lcsönzésdaát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Lejáratdát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isszadátu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önyvek táblábó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Szerző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Cí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Olvasok táblábó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Vezetékné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eresztné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Évfoly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osztá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egjelenítés sorban található kis négyzetek kipipálásával eldöntjük, hogy melyek adatait kívánjuk ténylegesen látni a lekérdezés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átra van még a feltételek megad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ttős feltételt kell alkalmaz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ejáratidátum legyen korábbi a mai dátumná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isszadátum legyen ü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ely könyvek kölcsönzési határideje járt le, és azok melyik olvasónál találhatók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feltételek bev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fejezés szerkesztő használatá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a a feltételek sor egy cellájára lépünk, akkor az ikonsor jobb oldalán egy ikon jelenik meg amivel el tudjuk ind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erkesztés után mentsük el a lekérdezést „lejárt határidejű könyvek” né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QL nézetben megnézhetjük a háttérben megbúvó sql lekérdezé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ladó lekérdezés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ámítások, összesítések lekérdezések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éter használata lekérdezések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eszttáblás lekérd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ció lekérdezés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9:45:26Z</dcterms:created>
  <dc:creator>Nagymáté Péter</dc:creator>
  <dc:description/>
  <dc:language>en-US</dc:language>
  <cp:lastModifiedBy>Nagymáté Péter</cp:lastModifiedBy>
  <dcterms:modified xsi:type="dcterms:W3CDTF">2004-01-15T11:46:56Z</dcterms:modified>
  <cp:revision>9</cp:revision>
  <dc:subject/>
  <dc:title>Adatbázis kezelés </dc:title>
</cp:coreProperties>
</file>